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6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C6D-346E-4920-A8CA-8238FD7F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9EE-DC6F-4033-8976-9BBF87B4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289C3-2B5A-4364-8C5E-84D15412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0F7CC-8520-4BE1-9D38-6F57AEA4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E0D0E-C6B6-4517-B618-DC1C826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276E-5131-49DA-AC34-A08822D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9F19D-5FE1-43C4-B39D-647FB89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20B7F-D1BC-461B-9769-2942CDC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A53D1-86DB-467B-9120-17B790F2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5CD0-819E-4A6F-8826-D4B063DD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7BE4D-E1CC-4E57-AA89-9E234123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665-7C13-4DD3-A494-AC0B8B2A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0E4-AF95-40F4-B3A9-E81720C6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AF94-FBD2-49F3-88CA-97777892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7ACC-54BC-4E1E-B4DA-9D1432CB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19D7-02DB-4634-92D6-1B97BADA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1CDF-EF93-46F1-82E7-807EA19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A9D2-A7EB-41F2-ACA7-0B455D3C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5EF-3FB0-4D89-8D21-527DB7D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890A-3731-4811-95B1-B3D2F45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3B0-D898-4BF7-A097-EBC71DB3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D4DB-84D3-43F2-9FF8-82D0F62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9D8F-4DDA-472E-BAA3-1593CDF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E6EE-4E0E-4C21-88B1-3ED1CD0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AF4E-CFB8-4854-9651-595FA322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68DE-5DAD-40A3-8E7E-EC747015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CA65-1CCA-49E9-BAFD-DA3A5458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74D2-0B45-44A7-BF06-A566C6E5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5755-6DFC-41D6-B36D-36166CB5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FF18-8810-4877-8900-395EC9B9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85A7-6C1D-489D-858F-0BCB873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013-33A0-477C-9888-209149AB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3D54-FE1C-41B9-8AC9-E9A5D54F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9CC6-F0F0-49D8-940F-BD7BE9A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B288-6C75-4CE6-B921-7FC072D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0EC2-2C58-4CCA-A03C-BDE100FC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42C1-BE1A-4527-A6B1-BF6C1FBE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40BC-3FDA-4133-AC54-EF347F40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640B-EFE8-4DE3-9713-58A24882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5AB4A-6D56-4915-BF9A-EA038E34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60F1-2E7C-4CAC-A20A-A0627118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E0CD-20BF-484A-9CAA-B98FE1F0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444-5D1D-44CB-8C00-2B95A13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1816-FEC2-4BE0-936C-CF8A7793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5BC2-D3AF-4AFE-9FBE-547621E1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5D19-302E-4CB7-B01C-2F3940F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C4DF-159D-4EC2-89DA-2210B98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4D7E-DF7F-4B04-B42E-6DCE42FD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6325-A651-4EE3-8595-C04C50A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A1DA-3496-4ABE-A770-B32FFF27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1033-3E86-49F5-A84E-29D98A77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9C68-49F4-45B6-9209-2D538F20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9D673-EC98-4FE7-9828-A77C1D8A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DB6-1E90-402D-A8BA-A285DE0D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0E165-7BD5-48F8-87EE-EAB58B77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09FC-4954-4554-8B8A-0901758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E250C-4FF3-48A0-B708-18DC29A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5227E-46D4-4C6E-B5CE-378BA94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04075-E63E-4997-84B9-1C646B42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06BA-00A7-4A73-A16A-974C419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1D41-5CEA-4E16-89B5-E83F12F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4C047-E580-4CAF-9BFE-A4653905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AF09E-D5FE-4B3A-83FF-423EBD8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93F8-1FBC-4FB2-959A-1A114D97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7A5-04DE-48BF-85E0-0FC1C185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29A9-7F66-4F85-8330-5CEEAED1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B5484-859D-4D6C-B4DB-D036FB83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91052-1247-4ED7-BE36-3734782E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6051-5FEB-4832-88FA-0227C403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963A4-E028-4A0C-A923-F70532C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9A7E-8C1B-4FE5-8D4F-91F11833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F3D9-BC2C-4E7A-A4B6-A3561145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5158-7F8A-4A1E-9098-401259C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6DD8-B673-4B7D-BBE8-7AEA1107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0E7B-9C0D-4F57-BDA2-A34EA7A2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76E-03F2-443B-9ABE-60D4EEC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A3DE-14D7-4028-8CA4-65895F98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9D2E-B196-482C-9038-51A20722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372F1-CDB1-4F95-88B7-633D54E6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1CD0-F03B-494A-99ED-CB1993B8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8405-BC1E-40F2-925E-641F1D51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E4EB0-F23C-4DE4-BEFA-AC27CFBA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5B29-A2E6-4C1D-8389-4BA93E1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8A0D-A974-48DA-8159-1658843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4D5E2-C11B-4D33-BFC3-EA32FC69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34E18-32FE-42D1-B35D-0A670E4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C04-523E-42AD-AD6C-71B6A358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35A2-9774-4595-8AFC-6257F80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27E0-BAEC-4095-AD4C-FF48583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6923-B0FB-4FD0-9378-C51EEB82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FF44-97CC-4209-A02B-FEB45E21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F97C-7312-4061-BCA3-2BC36303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8FAB8-95D9-4202-9A6C-64C02739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C74B0-B0CD-4766-820C-56CA93A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0B23F-D8A6-4419-B897-6B1A535E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606BB-34A2-4B40-A815-F2B925C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A561-7EEC-40D7-BD26-5254DB32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F9D-2BC7-4E47-9840-476F3B8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5C0A-51AB-4539-9EEE-79B0FF40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39059-6FE0-4211-8ECB-F50D670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5995F-C61F-425C-BE7C-A6A145F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BFDDF-D9A0-4F79-83F9-0C4A9FD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A1D1B-C1EF-402A-B14C-F5F5B211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6A0A2-6744-4FB3-9EC5-B0719BF8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C480-16A6-483B-9627-4142107F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4AFBE-9461-4D15-B54C-787786D4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31703-1ACA-47D3-BEFE-1E4CDB4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B7786-6208-4D56-9C2B-377EB97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BC11-E719-4978-BF79-F293A2338F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73F-E026-4E7B-AB50-4E399B1BF1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09F7-CE52-46F0-A31F-03AC02CF7F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CA9-BCA1-4C82-B485-CB30A180B7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730C-5BAE-4093-A791-A379642D65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D5F6-9DF1-485A-B1C0-A70337CC62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2602-DE60-44CA-9794-50F22BBE95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21A2-C22A-4DF8-B4B6-132AF0C178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5A6C-AC23-4F10-8B4C-4C2EE79738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65040" y="1219320"/>
            <a:ext cx="87296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0012-004-"/>
          <p:cNvPicPr/>
          <p:nvPr/>
        </p:nvPicPr>
        <p:blipFill>
          <a:blip r:embed="rId2"/>
          <a:stretch/>
        </p:blipFill>
        <p:spPr>
          <a:xfrm>
            <a:off x="1000080" y="1643040"/>
            <a:ext cx="7143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766360" cy="19764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hello_html_m700b289f.jpg"/>
          <p:cNvPicPr/>
          <p:nvPr/>
        </p:nvPicPr>
        <p:blipFill>
          <a:blip r:embed="rId2"/>
          <a:stretch/>
        </p:blipFill>
        <p:spPr>
          <a:xfrm>
            <a:off x="1285920" y="2181240"/>
            <a:ext cx="64292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9764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-360" y="1554120"/>
            <a:ext cx="8991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Рисунок 3" descr="Опыт по определению движения воздуха"/>
          <p:cNvPicPr/>
          <p:nvPr/>
        </p:nvPicPr>
        <p:blipFill>
          <a:blip r:embed="rId2"/>
          <a:stretch/>
        </p:blipFill>
        <p:spPr>
          <a:xfrm>
            <a:off x="285840" y="1571760"/>
            <a:ext cx="3929040" cy="35002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4" descr="Теплый воздух поднимается вверх"/>
          <p:cNvPicPr/>
          <p:nvPr/>
        </p:nvPicPr>
        <p:blipFill>
          <a:blip r:embed="rId3"/>
          <a:stretch/>
        </p:blipFill>
        <p:spPr>
          <a:xfrm>
            <a:off x="4500720" y="2214720"/>
            <a:ext cx="4214520" cy="37861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20" descr="Воздушный шар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https://ds04.infourok.ru/uploads/ex/08a2/0014c921-306b5bad/img42.jpg"/>
          <p:cNvPicPr/>
          <p:nvPr/>
        </p:nvPicPr>
        <p:blipFill>
          <a:blip r:embed="rId2"/>
          <a:stretch/>
        </p:blipFill>
        <p:spPr>
          <a:xfrm>
            <a:off x="142920" y="428760"/>
            <a:ext cx="86439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81160" y="79200"/>
            <a:ext cx="8697600" cy="1268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28760" y="13572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е имеет вкуса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е имеет запаха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е имеет цвета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озрачен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лохо проводит тепло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WordArt 29"/>
          <p:cNvSpPr txBox="1"/>
          <p:nvPr/>
        </p:nvSpPr>
        <p:spPr>
          <a:xfrm>
            <a:off x="0" y="457200"/>
            <a:ext cx="4991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2557440" y="1389960"/>
            <a:ext cx="402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69976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Исследовать   ……………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1. Исследовать свойства воздух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Необходимо бережно относиться</a:t>
            </a: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 всем приборам. Их можно не только разбить, ими можно поранить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Во время работы можно не только сидеть, но и стоя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Опыт проводит один из учеников, остальные молча наблюдают и помогают только по его просьб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Переговариваться друг с другом нужно тихо, не мешая остальны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1" descr="hello_html_576b1f6e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72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714920" cy="48578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3" descr="Водолазный колокол"/>
          <p:cNvPicPr/>
          <p:nvPr/>
        </p:nvPicPr>
        <p:blipFill>
          <a:blip r:embed="rId3"/>
          <a:stretch/>
        </p:blipFill>
        <p:spPr>
          <a:xfrm>
            <a:off x="5500800" y="1428840"/>
            <a:ext cx="3071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00040" y="1928520"/>
            <a:ext cx="8491680" cy="41511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2" descr="hello_html_4aaf4703.jpg"/>
          <p:cNvPicPr/>
          <p:nvPr/>
        </p:nvPicPr>
        <p:blipFill>
          <a:blip r:embed="rId3"/>
          <a:stretch/>
        </p:blipFill>
        <p:spPr>
          <a:xfrm>
            <a:off x="928800" y="1928880"/>
            <a:ext cx="7000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30" descr="Аппарат искусственной вентиляции легких"/>
          <p:cNvPicPr/>
          <p:nvPr/>
        </p:nvPicPr>
        <p:blipFill>
          <a:blip r:embed="rId3"/>
          <a:stretch/>
        </p:blipFill>
        <p:spPr>
          <a:xfrm>
            <a:off x="6000840" y="128592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31" descr="Книгопечатание"/>
          <p:cNvPicPr/>
          <p:nvPr/>
        </p:nvPicPr>
        <p:blipFill>
          <a:blip r:embed="rId4"/>
          <a:stretch/>
        </p:blipFill>
        <p:spPr>
          <a:xfrm>
            <a:off x="2928960" y="4786200"/>
            <a:ext cx="2719440" cy="19288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26" descr="Состав метро"/>
          <p:cNvPicPr/>
          <p:nvPr/>
        </p:nvPicPr>
        <p:blipFill>
          <a:blip r:embed="rId5"/>
          <a:stretch/>
        </p:blipFill>
        <p:spPr>
          <a:xfrm>
            <a:off x="6286680" y="4286160"/>
            <a:ext cx="2566800" cy="185760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27" descr="Труба"/>
          <p:cNvPicPr/>
          <p:nvPr/>
        </p:nvPicPr>
        <p:blipFill>
          <a:blip r:embed="rId6"/>
          <a:stretch/>
        </p:blipFill>
        <p:spPr>
          <a:xfrm>
            <a:off x="3357720" y="3786120"/>
            <a:ext cx="228600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9" descr="Барабан"/>
          <p:cNvPicPr/>
          <p:nvPr/>
        </p:nvPicPr>
        <p:blipFill>
          <a:blip r:embed="rId7"/>
          <a:stretch/>
        </p:blipFill>
        <p:spPr>
          <a:xfrm>
            <a:off x="357120" y="3643200"/>
            <a:ext cx="1571760" cy="15004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8" descr="Гармонь"/>
          <p:cNvPicPr/>
          <p:nvPr/>
        </p:nvPicPr>
        <p:blipFill>
          <a:blip r:embed="rId8"/>
          <a:stretch/>
        </p:blipFill>
        <p:spPr>
          <a:xfrm>
            <a:off x="428760" y="5143680"/>
            <a:ext cx="2000160" cy="14000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5" descr="Троллейбус"/>
          <p:cNvPicPr/>
          <p:nvPr/>
        </p:nvPicPr>
        <p:blipFill>
          <a:blip r:embed="rId9"/>
          <a:stretch/>
        </p:blipFill>
        <p:spPr>
          <a:xfrm>
            <a:off x="3286080" y="1500120"/>
            <a:ext cx="2571840" cy="22147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4" descr="Велосипедное колесо"/>
          <p:cNvPicPr/>
          <p:nvPr/>
        </p:nvPicPr>
        <p:blipFill>
          <a:blip r:embed="rId10"/>
          <a:stretch/>
        </p:blipFill>
        <p:spPr>
          <a:xfrm>
            <a:off x="714240" y="1428840"/>
            <a:ext cx="2067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6T19:43:25Z</dcterms:created>
  <dc:creator>Марина Микрюкова</dc:creator>
  <dc:description/>
  <dc:language>en-US</dc:language>
  <cp:lastModifiedBy>Марина Микрюкова</cp:lastModifiedBy>
  <dcterms:modified xsi:type="dcterms:W3CDTF">2019-12-12T21:51:08Z</dcterms:modified>
  <cp:revision>8</cp:revision>
  <dc:subject/>
  <dc:title>СРАВНЕНИЕ  ТРЁХЗНАЧНЫХ ЧИСЕЛ 2 КЛАСС ПНШ</dc:title>
</cp:coreProperties>
</file>